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CAB8-9CF1-4FB8-AB8A-DEF8D18DFB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E91B-98D9-4C23-97B9-D022CABC0108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6964-8486-4A5A-BE8C-BA3C20E72F4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48EB-BF0F-4D65-BE4F-5FB6040C693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D436-9D18-4E5C-A41A-C6944CE7981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175D-A374-4603-8632-77B3D16C1BD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2A1E-7F9F-4F95-9FA4-B68891D7905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98E7-B33A-49C9-BE06-E0FE5821A1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857-72B1-4129-BB2E-66E96160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524-78E6-451E-BB59-C3525225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188-2A87-42DC-A431-2F7C4617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A6E-1D1B-4DDD-9750-24979312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4AC-B694-4DB5-9AAC-55DC5C7B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7AE-A7C7-4E10-9382-7BED7001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C65-A0BC-4653-8572-850756F1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883-CA60-4E70-8CD3-9E4A74BF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44A-DE65-4661-8ADC-8944CC9A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5BA-7F58-42F0-A5B9-E737054F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244-1BE4-49A9-A65B-D410FCB5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5E3-BA16-47DC-A11B-666DCDA3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01D5-5076-4945-AD02-F7DBB7534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2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6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7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0-12-02T13:49:49Z</dcterms:modified>
  <cp:revision>125</cp:revision>
  <dc:subject/>
  <dc:title>Презентация PowerPoint</dc:title>
</cp:coreProperties>
</file>